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8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0D41-BA11-48BC-BAF8-FC41767D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A34C-A20F-438B-9F3C-77E75D45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B6B4-C0D9-4665-B91F-B59023EE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E5EE-A49F-4F9E-8A86-7EE6B087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5251-E26B-45FF-B546-4ECB3EEE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19B2-4F45-4B2A-A4CC-41BEBCDD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0B08-D17F-47E2-9A06-D6C94827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C0A2-2BA1-4575-99AC-59E9994A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2AE0-60E5-4C03-B24B-7D9E9ED3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FDE7-84BC-479F-A95C-8A69149B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3025-6454-46E2-A0DB-50B163E7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7694-4DBB-4467-A185-4D2056D2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506E-AE48-4491-A205-A6324F4E7DD6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297000"/>
            <a:ext cx="2736720" cy="62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Da Vašem prvašiću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prilagodba na školu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bude lakša..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Ne morate pričati bajke o školi,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ali  svakako pričajte pozitivno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Prijeđite s djetetom nekolik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puta put do škole, POSEBNO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ga upozorite na prijelaz  prek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ceste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Zajedno s djetetom kupujte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sve što mu je potrebno za školu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i dozvolite mu  vlastiti izbor pri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kupnji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Zajedno s djetetom uredite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njegov radni kutak ( radni stol,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policu...) vodeći računa da nema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previše sadržaja koji bi djetetu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mogli odvlačiti pažnju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Podsjetite dijete na pravila po-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našanja: odnos prema vršnjaci-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ma i odraslima, pozdravljanje,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oslovljavanje, korištenje WC-a,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pranje ruku, briga o osobnim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predmetima.     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4"/>
          <p:cNvSpPr/>
          <p:nvPr/>
        </p:nvSpPr>
        <p:spPr>
          <a:xfrm>
            <a:off x="3095640" y="476280"/>
            <a:ext cx="2952720" cy="36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Polaskom u školu dijete mijenja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svoj uobičajeni ritam: ustajanje,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obroci, vrijeme za rad i igru,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odlazak na spavanje..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Vodite računa da prvašiću treba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dovoljno sna – od  9 do  11 sati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Takvo dijete je odmorno i spremn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za rad. Priviknite dijete na raniji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odlazak na spavanje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Roditeljska neslaganja utječu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na djetetovo ponašanje i razvoj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Nikad ne gubite strpljenje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Pohvalite dijete za svaki  na-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predak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5"/>
          <p:cNvSpPr/>
          <p:nvPr/>
        </p:nvSpPr>
        <p:spPr>
          <a:xfrm>
            <a:off x="6588000" y="314280"/>
            <a:ext cx="2737080" cy="62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7"/>
          <p:cNvSpPr/>
          <p:nvPr/>
        </p:nvSpPr>
        <p:spPr>
          <a:xfrm>
            <a:off x="6877080" y="115920"/>
            <a:ext cx="187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Podsjetnik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za  roditelje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j0424466"/>
          <p:cNvPicPr/>
          <p:nvPr/>
        </p:nvPicPr>
        <p:blipFill>
          <a:blip r:embed="rId1"/>
          <a:stretch/>
        </p:blipFill>
        <p:spPr>
          <a:xfrm>
            <a:off x="6877080" y="1052640"/>
            <a:ext cx="1974960" cy="16984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9"/>
          <p:cNvSpPr/>
          <p:nvPr/>
        </p:nvSpPr>
        <p:spPr>
          <a:xfrm>
            <a:off x="6732720" y="2924280"/>
            <a:ext cx="241128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Štovani  roditelji,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drago mi je da j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Vaše dijete postalo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mojim učenikom i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da ću sljedećih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godina s vama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sudjelovati u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njegovu odgoju i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obrazovanju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Times New Roman"/>
              </a:rPr>
              <a:t>Vaša  učiteljica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600" spc="-1" strike="noStrike">
                <a:solidFill>
                  <a:srgbClr val="000000"/>
                </a:solidFill>
                <a:latin typeface="Arial Rounded MT Bold"/>
              </a:rPr>
              <a:t>                 </a:t>
            </a:r>
            <a:r>
              <a:rPr b="1" i="1" lang="hr-HR" sz="1600" spc="-1" strike="noStrike">
                <a:solidFill>
                  <a:srgbClr val="000000"/>
                </a:solidFill>
                <a:latin typeface="Arial Rounded MT Bold"/>
              </a:rPr>
              <a:t>1. rujna 2008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240000" y="4221000"/>
            <a:ext cx="2664000" cy="2232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Snalaženje djeteta u prvom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razredu  osnovne škole vrl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je važno jer se upravo tada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stječu i razvijaju navike i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osobine značajne za uspjeh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u daljnjem školovanju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Kako bismo djetetu u tome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pomogli, pozivam Vas na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suradnju. </a:t>
            </a: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j0432645"/>
          <p:cNvPicPr/>
          <p:nvPr/>
        </p:nvPicPr>
        <p:blipFill>
          <a:blip r:embed="rId2"/>
          <a:stretch/>
        </p:blipFill>
        <p:spPr>
          <a:xfrm flipH="1" rot="13969800">
            <a:off x="6084360" y="0"/>
            <a:ext cx="496800" cy="496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" descr="j0432645"/>
          <p:cNvPicPr/>
          <p:nvPr/>
        </p:nvPicPr>
        <p:blipFill>
          <a:blip r:embed="rId3"/>
          <a:stretch/>
        </p:blipFill>
        <p:spPr>
          <a:xfrm>
            <a:off x="6156360" y="1125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j0432645"/>
          <p:cNvPicPr/>
          <p:nvPr/>
        </p:nvPicPr>
        <p:blipFill>
          <a:blip r:embed="rId4"/>
          <a:stretch/>
        </p:blipFill>
        <p:spPr>
          <a:xfrm>
            <a:off x="6084720" y="3176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7" descr="j0432645"/>
          <p:cNvPicPr/>
          <p:nvPr/>
        </p:nvPicPr>
        <p:blipFill>
          <a:blip r:embed="rId5"/>
          <a:stretch/>
        </p:blipFill>
        <p:spPr>
          <a:xfrm rot="3226200">
            <a:off x="6156360" y="40762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9" descr="j0432645"/>
          <p:cNvPicPr/>
          <p:nvPr/>
        </p:nvPicPr>
        <p:blipFill>
          <a:blip r:embed="rId6"/>
          <a:stretch/>
        </p:blipFill>
        <p:spPr>
          <a:xfrm rot="20638200">
            <a:off x="6156000" y="50842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1" descr="j0432645"/>
          <p:cNvPicPr/>
          <p:nvPr/>
        </p:nvPicPr>
        <p:blipFill>
          <a:blip r:embed="rId7"/>
          <a:stretch/>
        </p:blipFill>
        <p:spPr>
          <a:xfrm>
            <a:off x="6156360" y="6354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4" descr="j0432645"/>
          <p:cNvPicPr/>
          <p:nvPr/>
        </p:nvPicPr>
        <p:blipFill>
          <a:blip r:embed="rId8"/>
          <a:stretch/>
        </p:blipFill>
        <p:spPr>
          <a:xfrm>
            <a:off x="6156360" y="2133720"/>
            <a:ext cx="50328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-181080" y="297000"/>
            <a:ext cx="2737080" cy="62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348000" y="297000"/>
            <a:ext cx="2736720" cy="62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6407280" y="297000"/>
            <a:ext cx="2736720" cy="62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600" spc="-1" strike="noStrike">
                <a:solidFill>
                  <a:srgbClr val="000000"/>
                </a:solidFill>
                <a:latin typeface="Arial"/>
              </a:rPr>
              <a:t>UČENIČKI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600" spc="-1" strike="noStrike">
                <a:solidFill>
                  <a:srgbClr val="000000"/>
                </a:solidFill>
                <a:latin typeface="Arial"/>
              </a:rPr>
              <a:t>ODMORI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0" y="189000"/>
            <a:ext cx="2411280" cy="1224000"/>
          </a:xfrm>
          <a:prstGeom prst="horizontalScrol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ORGANIZACIJA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RADA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0" y="3429000"/>
            <a:ext cx="24843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Nastava će se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održavati uvijek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u jutarnjoj smjeni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od  8 h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Doći u 7,45 na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nogometno igralište,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stati u red  i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pričekati dežurnog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učitelja koji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koordinira način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ulaska u školu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(učionicu).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6"/>
          <p:cNvSpPr/>
          <p:nvPr/>
        </p:nvSpPr>
        <p:spPr>
          <a:xfrm>
            <a:off x="3564000" y="1197000"/>
            <a:ext cx="216036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satnica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348000" y="1916280"/>
          <a:ext cx="2664000" cy="1066680"/>
        </p:xfrm>
        <a:graphic>
          <a:graphicData uri="http://schemas.openxmlformats.org/drawingml/2006/table">
            <a:tbl>
              <a:tblPr/>
              <a:tblGrid>
                <a:gridCol w="558720"/>
                <a:gridCol w="1071720"/>
                <a:gridCol w="1033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ak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vršetak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sat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0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5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sat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50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5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118"/>
          <p:cNvSpPr/>
          <p:nvPr/>
        </p:nvSpPr>
        <p:spPr>
          <a:xfrm>
            <a:off x="3490920" y="3068640"/>
            <a:ext cx="21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veliki  odmor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348000" y="3429000"/>
          <a:ext cx="2664000" cy="1096920"/>
        </p:xfrm>
        <a:graphic>
          <a:graphicData uri="http://schemas.openxmlformats.org/drawingml/2006/table">
            <a:tbl>
              <a:tblPr/>
              <a:tblGrid>
                <a:gridCol w="576360"/>
                <a:gridCol w="1025640"/>
                <a:gridCol w="1062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sat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5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0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sat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5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0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sat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5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0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sat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5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0 h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WordArt 201"/>
          <p:cNvSpPr txBox="1"/>
          <p:nvPr/>
        </p:nvSpPr>
        <p:spPr>
          <a:xfrm>
            <a:off x="3995640" y="4653000"/>
            <a:ext cx="115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1.</a:t>
            </a:r>
            <a:endParaRPr b="1" i="1" lang="en-US" sz="20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5" name="WordArt 202"/>
          <p:cNvSpPr txBox="1"/>
          <p:nvPr/>
        </p:nvSpPr>
        <p:spPr>
          <a:xfrm>
            <a:off x="3971880" y="5950080"/>
            <a:ext cx="1200240" cy="723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učionica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 </a:t>
            </a: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br. 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</p:txBody>
      </p:sp>
      <p:sp>
        <p:nvSpPr>
          <p:cNvPr id="66" name="Rectangle 205"/>
          <p:cNvSpPr/>
          <p:nvPr/>
        </p:nvSpPr>
        <p:spPr>
          <a:xfrm rot="16200000">
            <a:off x="5688000" y="1449360"/>
            <a:ext cx="1656000" cy="719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206"/>
          <p:cNvSpPr txBox="1"/>
          <p:nvPr/>
        </p:nvSpPr>
        <p:spPr>
          <a:xfrm rot="5400000">
            <a:off x="5724000" y="1483920"/>
            <a:ext cx="1511280" cy="50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80"/>
                  </a:solidFill>
                  <a:miter/>
                </a:ln>
                <a:noFill/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Nastavna</a:t>
            </a:r>
            <a:endParaRPr b="1" i="1" lang="en-US" sz="2400" spc="1" strike="noStrike">
              <a:ln w="12600">
                <a:solidFill>
                  <a:srgbClr val="000080"/>
                </a:solidFill>
                <a:miter/>
              </a:ln>
              <a:noFill/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80"/>
                  </a:solidFill>
                  <a:miter/>
                </a:ln>
                <a:noFill/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godina</a:t>
            </a:r>
            <a:endParaRPr b="1" i="1" lang="en-US" sz="2400" spc="1" strike="noStrike">
              <a:ln w="12600">
                <a:solidFill>
                  <a:srgbClr val="000080"/>
                </a:solidFill>
                <a:miter/>
              </a:ln>
              <a:noFill/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8" name="Picture 215" descr="j0432635"/>
          <p:cNvPicPr/>
          <p:nvPr/>
        </p:nvPicPr>
        <p:blipFill>
          <a:blip r:embed="rId1"/>
          <a:stretch/>
        </p:blipFill>
        <p:spPr>
          <a:xfrm>
            <a:off x="395280" y="141300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18" descr="blinkies-7"/>
          <p:cNvPicPr/>
          <p:nvPr/>
        </p:nvPicPr>
        <p:blipFill>
          <a:blip r:embed="rId2"/>
          <a:stretch/>
        </p:blipFill>
        <p:spPr>
          <a:xfrm>
            <a:off x="7093080" y="3141720"/>
            <a:ext cx="1439640" cy="87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19" descr="j0432655"/>
          <p:cNvPicPr/>
          <p:nvPr/>
        </p:nvPicPr>
        <p:blipFill>
          <a:blip r:embed="rId3"/>
          <a:stretch/>
        </p:blipFill>
        <p:spPr>
          <a:xfrm>
            <a:off x="4356000" y="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0" descr="j0426054"/>
          <p:cNvPicPr/>
          <p:nvPr/>
        </p:nvPicPr>
        <p:blipFill>
          <a:blip r:embed="rId4"/>
          <a:stretch/>
        </p:blipFill>
        <p:spPr>
          <a:xfrm rot="21219600">
            <a:off x="3851280" y="404280"/>
            <a:ext cx="920880" cy="803520"/>
          </a:xfrm>
          <a:prstGeom prst="rect">
            <a:avLst/>
          </a:prstGeom>
          <a:ln w="0">
            <a:noFill/>
          </a:ln>
        </p:spPr>
      </p:pic>
      <p:sp>
        <p:nvSpPr>
          <p:cNvPr id="72" name="WordArt 230"/>
          <p:cNvSpPr txBox="1"/>
          <p:nvPr/>
        </p:nvSpPr>
        <p:spPr>
          <a:xfrm>
            <a:off x="6443640" y="189000"/>
            <a:ext cx="2340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ALENDAR RADA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443640" y="4005360"/>
          <a:ext cx="2521080" cy="2106360"/>
        </p:xfrm>
        <a:graphic>
          <a:graphicData uri="http://schemas.openxmlformats.org/drawingml/2006/table">
            <a:tbl>
              <a:tblPr/>
              <a:tblGrid>
                <a:gridCol w="1260360"/>
                <a:gridCol w="1260720"/>
              </a:tblGrid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MSKI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MOR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prosinca 0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9. siječnja 09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LJETNI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MOR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travnja –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 travnja 09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JETNI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MOR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lipnja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877080" y="981000"/>
          <a:ext cx="2087640" cy="1652760"/>
        </p:xfrm>
        <a:graphic>
          <a:graphicData uri="http://schemas.openxmlformats.org/drawingml/2006/table">
            <a:tbl>
              <a:tblPr/>
              <a:tblGrid>
                <a:gridCol w="1004760"/>
                <a:gridCol w="1082880"/>
              </a:tblGrid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vo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azovno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doblje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rujna -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prosinca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o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azovno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doblje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siječnja –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lipnja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13" descr="j0432483"/>
          <p:cNvPicPr/>
          <p:nvPr/>
        </p:nvPicPr>
        <p:blipFill>
          <a:blip r:embed="rId5"/>
          <a:stretch/>
        </p:blipFill>
        <p:spPr>
          <a:xfrm>
            <a:off x="7236000" y="566100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21:45:45Z</dcterms:created>
  <dc:creator>IT</dc:creator>
  <dc:description/>
  <dc:language>en-US</dc:language>
  <cp:lastModifiedBy>Višnja</cp:lastModifiedBy>
  <dcterms:modified xsi:type="dcterms:W3CDTF">2009-10-24T15:45:56Z</dcterms:modified>
  <cp:revision>21</cp:revision>
  <dc:subject/>
  <dc:title>Slide 1</dc:title>
</cp:coreProperties>
</file>